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4864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98C-A636-43F0-9922-03EC2EC2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71600"/>
            <a:ext cx="82296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800-DEA8-4F59-A55C-28020A7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7160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7160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0A4-6A47-4BD9-B7FC-70395727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26496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79080"/>
            <a:ext cx="26496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79080"/>
            <a:ext cx="26496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71600"/>
            <a:ext cx="26496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71600"/>
            <a:ext cx="26496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71600"/>
            <a:ext cx="26496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B94-3D31-4B73-96AB-A6CBD090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7908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F81-F7D3-47B6-B633-6CD42F3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FDB-F906-4831-81E7-08EF6601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C0C-89E5-40FA-BEE4-491AB32B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5EF-2B92-4B6D-9006-F0D934A2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92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16D-8B18-4C1F-84DC-89B672D4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7160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0A6-9C8B-41A9-913B-1EE69BB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7160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2E7-CA36-4A4B-9B46-AB929E28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79080"/>
            <a:ext cx="40158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71600"/>
            <a:ext cx="82296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A3B-E329-4BE7-9481-6E3ED190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7908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975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97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975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BAE6-804C-4691-A9BE-59A460AE7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380880"/>
          <a:ext cx="8229600" cy="700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               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by L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304920" y="1143000"/>
          <a:ext cx="2286000" cy="403848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9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I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90920" y="1143000"/>
          <a:ext cx="6095880" cy="1158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590920" y="2209680"/>
          <a:ext cx="6095880" cy="1935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590920" y="41450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08:52Z</dcterms:created>
  <dc:creator/>
  <dc:description/>
  <dc:language>en-US</dc:language>
  <cp:lastModifiedBy/>
  <dcterms:modified xsi:type="dcterms:W3CDTF">2010-10-12T15:50:11Z</dcterms:modified>
  <cp:revision>6</cp:revision>
  <dc:subject/>
  <dc:title/>
</cp:coreProperties>
</file>